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B597-4A4D-4C33-BA07-4A8711D3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57E-4311-4989-AEC3-F15EC77A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ABC-BF19-40FC-88BA-A0697D10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F4B-86F3-460A-A9D6-8CD6E112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937-146B-423E-B1FB-6AC19066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7E8-5BAF-4FAF-B963-AEE06005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7451-0F6A-4E56-A0B0-106EDC92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7BE9-EF91-494F-BCBF-3D2F0F41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B19B-D241-48BF-A3D8-E253DDF1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7B0-2122-4085-8006-AE848DF4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DC9-6283-40E9-84EB-F3DE942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BA3-4B35-4213-9F14-2D0CF6B1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420-3EF3-4C4E-81B9-AB96C525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81E1-D53E-44B5-A3F3-F0949720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D76-DC14-46C2-8C6A-401B8AF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E10A-10FC-4F9A-ABDC-1B5796B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FAEC-544F-4C9B-840F-AA443B0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3CCA-F249-4848-9F7D-82269F9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2240-1E4D-4BE7-ACE9-711D397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8C7D-1B38-4611-8EA3-E126A3D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83B-CCBE-4015-99F8-33BC05B2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008-EBA2-48E9-8EAB-A31853D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326-C83E-4558-A70E-B85A750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FC4-0BD6-4863-84DD-AA950AA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2FF7-F836-44DC-B112-0A2EE6E3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E87-90D0-4AF0-BF9F-F3D2DA95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090-8D96-420C-9836-C92FADD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A48-D823-49CA-927C-849CA508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CBA-65D0-4D28-8475-33C2D58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E64-65D9-4B8C-ACC4-971E28B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3CD-123C-4A2A-89D6-2BD0CE4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534-39FF-4491-8DAE-6E7F000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EBF-5441-4891-BA50-5E6BD71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BC2-8A58-40EC-8CAA-F617EDA78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FD2-3B58-4FFE-85F0-151A8E42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4720" y="38862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elix A. K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259056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is moving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can come from different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, S, E, W, NE, NW, SW,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re hurricanes, tornados, gales, bree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do with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3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l a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lectr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wind for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289512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I had a windmill in my backyard…how could I use it for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ould make a wind-powered elevat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9000" y="2438280"/>
            <a:ext cx="2062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windmill"/>
          <p:cNvPicPr/>
          <p:nvPr/>
        </p:nvPicPr>
        <p:blipFill>
          <a:blip r:embed="rId1"/>
          <a:stretch/>
        </p:blipFill>
        <p:spPr>
          <a:xfrm>
            <a:off x="228600" y="291132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an"/>
          <p:cNvPicPr/>
          <p:nvPr/>
        </p:nvPicPr>
        <p:blipFill>
          <a:blip r:embed="rId2"/>
          <a:stretch/>
        </p:blipFill>
        <p:spPr>
          <a:xfrm>
            <a:off x="2362320" y="291132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vator_lego"/>
          <p:cNvPicPr/>
          <p:nvPr/>
        </p:nvPicPr>
        <p:blipFill>
          <a:blip r:embed="rId3"/>
          <a:stretch/>
        </p:blipFill>
        <p:spPr>
          <a:xfrm>
            <a:off x="6629400" y="291132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levator_paper"/>
          <p:cNvPicPr/>
          <p:nvPr/>
        </p:nvPicPr>
        <p:blipFill>
          <a:blip r:embed="rId4"/>
          <a:stretch/>
        </p:blipFill>
        <p:spPr>
          <a:xfrm>
            <a:off x="4495680" y="2911320"/>
            <a:ext cx="203220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57200" y="6035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90920" y="60357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724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010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114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demonstr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560" y="61718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UNP0028.AVI" descr="Macintosh HD:Users:mucuna:Pictures:iPhoto Library:Originals:2034:Jan 25, 2034:SUNP0028.AVI"/>
          <p:cNvPicPr/>
          <p:nvPr/>
        </p:nvPicPr>
        <p:blipFill>
          <a:blip r:embed="rId1"/>
          <a:stretch/>
        </p:blipFill>
        <p:spPr>
          <a:xfrm>
            <a:off x="228600" y="22860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0" name="SUNP0030.AVI" descr="Macintosh HD:Users:mucuna:Pictures:iPhoto Library:Originals:2034:Jan 25, 2034:SUNP0030.AVI"/>
          <p:cNvPicPr/>
          <p:nvPr/>
        </p:nvPicPr>
        <p:blipFill>
          <a:blip r:embed="rId2"/>
          <a:stretch/>
        </p:blipFill>
        <p:spPr>
          <a:xfrm>
            <a:off x="4038480" y="22860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6858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play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1142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demonstr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59432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UNP0036.AVI" descr="Macintosh HD:Users:mucuna:Pictures:iPhoto Library:Originals:2034:Jan 25, 2034:SUNP0036.AVI"/>
          <p:cNvPicPr/>
          <p:nvPr/>
        </p:nvPicPr>
        <p:blipFill>
          <a:blip r:embed="rId1"/>
          <a:stretch/>
        </p:blipFill>
        <p:spPr>
          <a:xfrm>
            <a:off x="0" y="2133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SUNP0037.AVI" descr="Macintosh HD:Users:mucuna:Pictures:iPhoto Library:Originals:2034:Jan 25, 2034:SUNP0037.AVI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858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play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ego elevator not go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0" y="29714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was too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trong wind to power heav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05:40Z</dcterms:created>
  <dc:creator>Anon ymous</dc:creator>
  <dc:description/>
  <dc:language>en-US</dc:language>
  <cp:lastModifiedBy>gross2</cp:lastModifiedBy>
  <dcterms:modified xsi:type="dcterms:W3CDTF">2012-03-13T20:31:06Z</dcterms:modified>
  <cp:revision>20</cp:revision>
  <dc:subject/>
  <dc:title>Wind </dc:title>
</cp:coreProperties>
</file>